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6.png" ContentType="image/png"/>
  <Override PartName="/ppt/media/image5.png" ContentType="image/png"/>
  <Override PartName="/ppt/media/image7.png" ContentType="image/png"/>
  <Override PartName="/ppt/media/image1.jpeg" ContentType="image/jpeg"/>
  <Override PartName="/ppt/media/image15.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936A-9559-453B-B9A9-AE1366623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F935-96C9-4280-9A1E-514D4F243E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am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cam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lab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in the camp was terribl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overcrow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ood ration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oners underwent interrogations to discover and information</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el medical experiments conducted</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D11A1-8B3B-412E-B73A-EF769D784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41523-06A0-4E64-B796-8C5372B51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31D9E-46D1-4078-AC10-7F30C45D6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49716-162E-46F6-8156-B7DFAB9FF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A9BBB-2F06-409F-A656-2BE879CD3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0FEFC-C304-44ED-8E2B-0B66F1286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BA8F3-D7C9-4181-81F5-83B854844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4746D-B845-4AB5-AA3D-9AF2E4214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60897-E334-4837-9A5A-AD015F768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6E89C-1DE6-4D27-9854-9065995AA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B1431-0BB6-421D-A282-032A7CE84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EF800-A8FC-477B-8EBF-98DFAB675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4A66-ACB6-4A72-9CB8-D868A80170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http://www.pbs.org/wgbh/pages/frontline/camp/view/" TargetMode="External"/><Relationship Id="rId4" Type="http://schemas.openxmlformats.org/officeDocument/2006/relationships/hyperlink" Target="http://www.pbs.org/auschwitz/maps/" TargetMode="External"/><Relationship Id="rId5" Type="http://schemas.openxmlformats.org/officeDocument/2006/relationships/slide" Target="slide10.xml"/><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historyplace.com/worldwar2/holocaust/h-zyklon.htm" TargetMode="External"/><Relationship Id="rId2" Type="http://schemas.openxmlformats.org/officeDocument/2006/relationships/slide" Target="slide10.xm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usc.edu/schools/college/vhi/pyramidofhate/vhfmain.htm"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ushmm.org/wlc/media_da.php?lang=en&amp;ModuleId=10005175&amp;MediaId=107"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04960" y="5790960"/>
            <a:ext cx="5638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WordArt 6"/>
          <p:cNvSpPr txBox="1"/>
          <p:nvPr/>
        </p:nvSpPr>
        <p:spPr>
          <a:xfrm>
            <a:off x="2133720" y="2209680"/>
            <a:ext cx="5257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Holocaus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al Solution</a:t>
            </a:r>
            <a:endParaRPr b="0" lang="en-US" sz="4400" spc="-1" strike="noStrike">
              <a:solidFill>
                <a:srgbClr val="e3ebf1"/>
              </a:solidFill>
              <a:latin typeface="Arial"/>
            </a:endParaRPr>
          </a:p>
        </p:txBody>
      </p:sp>
      <p:pic>
        <p:nvPicPr>
          <p:cNvPr id="81" name="Picture 8" descr="untitled22"/>
          <p:cNvPicPr/>
          <p:nvPr/>
        </p:nvPicPr>
        <p:blipFill>
          <a:blip r:embed="rId1"/>
          <a:stretch/>
        </p:blipFill>
        <p:spPr>
          <a:xfrm>
            <a:off x="228600" y="1828800"/>
            <a:ext cx="5562720" cy="3841920"/>
          </a:xfrm>
          <a:prstGeom prst="rect">
            <a:avLst/>
          </a:prstGeom>
          <a:ln w="0">
            <a:noFill/>
          </a:ln>
        </p:spPr>
      </p:pic>
      <p:sp>
        <p:nvSpPr>
          <p:cNvPr id="82" name="PlaceHolder 2"/>
          <p:cNvSpPr>
            <a:spLocks noGrp="1"/>
          </p:cNvSpPr>
          <p:nvPr>
            <p:ph/>
          </p:nvPr>
        </p:nvSpPr>
        <p:spPr>
          <a:xfrm>
            <a:off x="5866920" y="1447920"/>
            <a:ext cx="403884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2" action="ppaction://hlinksldjump"/>
              </a:rPr>
              <a:t>Ghetto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3" action="ppaction://hlinksldjump"/>
              </a:rPr>
              <a:t>Camp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4" action="ppaction://hlinksldjump"/>
              </a:rPr>
              <a:t>Trans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5" action="ppaction://hlinksldjump"/>
              </a:rPr>
              <a:t>Gas Chamb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6" action="ppaction://hlinksldjump"/>
              </a:rPr>
              <a:t>Cremato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AutoShape 7">
            <a:hlinkClick r:id="" action="ppaction://hlinkshowjump?jump=previousslide"/>
          </p:cNvPr>
          <p:cNvSpPr/>
          <p:nvPr/>
        </p:nvSpPr>
        <p:spPr>
          <a:xfrm>
            <a:off x="8001000" y="594360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7493"/>
                </a:moveTo>
                <a:lnTo>
                  <a:pt x="9458" y="7493"/>
                </a:lnTo>
                <a:lnTo>
                  <a:pt x="9458" y="12828"/>
                </a:lnTo>
                <a:cubicBezTo>
                  <a:pt x="9458" y="13751"/>
                  <a:pt x="10259" y="14482"/>
                  <a:pt x="11295" y="14482"/>
                </a:cubicBezTo>
                <a:lnTo>
                  <a:pt x="12957" y="14482"/>
                </a:lnTo>
                <a:cubicBezTo>
                  <a:pt x="13993" y="14482"/>
                  <a:pt x="14793" y="13751"/>
                  <a:pt x="14793" y="12828"/>
                </a:cubicBezTo>
                <a:lnTo>
                  <a:pt x="14793" y="7493"/>
                </a:lnTo>
                <a:lnTo>
                  <a:pt x="12957" y="7493"/>
                </a:lnTo>
                <a:lnTo>
                  <a:pt x="16465" y="3985"/>
                </a:lnTo>
                <a:lnTo>
                  <a:pt x="20137" y="7493"/>
                </a:lnTo>
                <a:lnTo>
                  <a:pt x="18301" y="7493"/>
                </a:lnTo>
                <a:lnTo>
                  <a:pt x="18301" y="12828"/>
                </a:lnTo>
                <a:cubicBezTo>
                  <a:pt x="18301" y="15596"/>
                  <a:pt x="15725" y="18155"/>
                  <a:pt x="12957" y="18155"/>
                </a:cubicBezTo>
                <a:lnTo>
                  <a:pt x="11295" y="18155"/>
                </a:lnTo>
                <a:cubicBezTo>
                  <a:pt x="8527" y="18155"/>
                  <a:pt x="5950" y="15596"/>
                  <a:pt x="5950"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85" name="PlaceHolder 2"/>
          <p:cNvSpPr>
            <a:spLocks noGrp="1"/>
          </p:cNvSpPr>
          <p:nvPr>
            <p:ph/>
          </p:nvPr>
        </p:nvSpPr>
        <p:spPr>
          <a:xfrm>
            <a:off x="457200" y="2743200"/>
            <a:ext cx="8229600" cy="1828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on how you believe the transportation of millions of people was actually able to take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Text Box 4"/>
          <p:cNvSpPr/>
          <p:nvPr/>
        </p:nvSpPr>
        <p:spPr>
          <a:xfrm>
            <a:off x="5931000" y="5827680"/>
            <a:ext cx="23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ction="ppaction://hlinksldjump"/>
              </a:rPr>
              <a:t>Click Here for Ans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hetto</a:t>
            </a:r>
            <a:endParaRPr b="0" lang="en-US" sz="4400" spc="-1" strike="noStrike">
              <a:solidFill>
                <a:srgbClr val="e3ebf1"/>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ea within a city that all Jews were forced to l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rations and living conditions were very po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Ghetto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saw</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dz</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vno</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9" name="Picture 13" descr="fffff"/>
          <p:cNvPicPr/>
          <p:nvPr/>
        </p:nvPicPr>
        <p:blipFill>
          <a:blip r:embed="rId1"/>
          <a:stretch/>
        </p:blipFill>
        <p:spPr>
          <a:xfrm>
            <a:off x="5105520" y="1676520"/>
            <a:ext cx="3033720" cy="4152960"/>
          </a:xfrm>
          <a:prstGeom prst="rect">
            <a:avLst/>
          </a:prstGeom>
          <a:ln w="0">
            <a:noFill/>
          </a:ln>
        </p:spPr>
      </p:pic>
      <p:sp>
        <p:nvSpPr>
          <p:cNvPr id="90" name="AutoShape 12">
            <a:hlinkClick r:id="rId2" action="ppaction://hlinksldjump"/>
          </p:cNvPr>
          <p:cNvSpPr/>
          <p:nvPr/>
        </p:nvSpPr>
        <p:spPr>
          <a:xfrm>
            <a:off x="304920" y="58672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entration Camps</a:t>
            </a:r>
            <a:endParaRPr b="0" lang="en-US" sz="4400" spc="-1" strike="noStrike">
              <a:solidFill>
                <a:srgbClr val="e3ebf1"/>
              </a:solidFill>
              <a:latin typeface="Arial"/>
            </a:endParaRPr>
          </a:p>
        </p:txBody>
      </p:sp>
      <p:pic>
        <p:nvPicPr>
          <p:cNvPr id="92" name="Picture 10" descr="camp pic 1"/>
          <p:cNvPicPr/>
          <p:nvPr/>
        </p:nvPicPr>
        <p:blipFill>
          <a:blip r:embed="rId1"/>
          <a:stretch/>
        </p:blipFill>
        <p:spPr>
          <a:xfrm>
            <a:off x="609480" y="1295280"/>
            <a:ext cx="3657600" cy="2925720"/>
          </a:xfrm>
          <a:prstGeom prst="rect">
            <a:avLst/>
          </a:prstGeom>
          <a:ln w="0">
            <a:noFill/>
          </a:ln>
        </p:spPr>
      </p:pic>
      <p:pic>
        <p:nvPicPr>
          <p:cNvPr id="93" name="Picture 9" descr="Camp 2"/>
          <p:cNvPicPr/>
          <p:nvPr/>
        </p:nvPicPr>
        <p:blipFill>
          <a:blip r:embed="rId2"/>
          <a:stretch/>
        </p:blipFill>
        <p:spPr>
          <a:xfrm>
            <a:off x="838080" y="4267080"/>
            <a:ext cx="3048120" cy="2006640"/>
          </a:xfrm>
          <a:prstGeom prst="rect">
            <a:avLst/>
          </a:prstGeom>
          <a:ln w="0">
            <a:noFill/>
          </a:ln>
        </p:spPr>
      </p:pic>
      <p:sp>
        <p:nvSpPr>
          <p:cNvPr id="94" name="PlaceHolder 2"/>
          <p:cNvSpPr>
            <a:spLocks noGrp="1"/>
          </p:cNvSpPr>
          <p:nvPr>
            <p:ph/>
          </p:nvPr>
        </p:nvSpPr>
        <p:spPr>
          <a:xfrm>
            <a:off x="4648320" y="190512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ion/Lab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mination/Death</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3"/>
              </a:rPr>
              <a:t>Dauchau-Buchenwa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4"/>
              </a:rPr>
              <a:t>Auschwit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blink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kenau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AutoShape 14">
            <a:hlinkClick r:id="rId5" action="ppaction://hlinksldjump"/>
          </p:cNvPr>
          <p:cNvSpPr/>
          <p:nvPr/>
        </p:nvSpPr>
        <p:spPr>
          <a:xfrm>
            <a:off x="8001000" y="58672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7493"/>
                </a:moveTo>
                <a:lnTo>
                  <a:pt x="9458" y="7493"/>
                </a:lnTo>
                <a:lnTo>
                  <a:pt x="9458" y="12828"/>
                </a:lnTo>
                <a:cubicBezTo>
                  <a:pt x="9458" y="13751"/>
                  <a:pt x="10259" y="14482"/>
                  <a:pt x="11295" y="14482"/>
                </a:cubicBezTo>
                <a:lnTo>
                  <a:pt x="12957" y="14482"/>
                </a:lnTo>
                <a:cubicBezTo>
                  <a:pt x="13993" y="14482"/>
                  <a:pt x="14793" y="13751"/>
                  <a:pt x="14793" y="12828"/>
                </a:cubicBezTo>
                <a:lnTo>
                  <a:pt x="14793" y="7493"/>
                </a:lnTo>
                <a:lnTo>
                  <a:pt x="12957" y="7493"/>
                </a:lnTo>
                <a:lnTo>
                  <a:pt x="16465" y="3985"/>
                </a:lnTo>
                <a:lnTo>
                  <a:pt x="20137" y="7493"/>
                </a:lnTo>
                <a:lnTo>
                  <a:pt x="18301" y="7493"/>
                </a:lnTo>
                <a:lnTo>
                  <a:pt x="18301" y="12828"/>
                </a:lnTo>
                <a:cubicBezTo>
                  <a:pt x="18301" y="15596"/>
                  <a:pt x="15725" y="18155"/>
                  <a:pt x="12957" y="18155"/>
                </a:cubicBezTo>
                <a:lnTo>
                  <a:pt x="11295" y="18155"/>
                </a:lnTo>
                <a:cubicBezTo>
                  <a:pt x="8527" y="18155"/>
                  <a:pt x="5950" y="15596"/>
                  <a:pt x="5950"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97" name="PlaceHolder 2"/>
          <p:cNvSpPr>
            <a:spLocks noGrp="1"/>
          </p:cNvSpPr>
          <p:nvPr>
            <p:ph/>
          </p:nvPr>
        </p:nvSpPr>
        <p:spPr>
          <a:xfrm>
            <a:off x="4495320" y="1600200"/>
            <a:ext cx="43434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atic De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xc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people in one c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s were bolted sh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lace to sit d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people were forced to pay for their transpor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water give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AutoShape 4">
            <a:hlinkClick r:id="rId1" action="ppaction://hlinksldjump"/>
          </p:cNvPr>
          <p:cNvSpPr/>
          <p:nvPr/>
        </p:nvSpPr>
        <p:spPr>
          <a:xfrm>
            <a:off x="8305920" y="59436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9038"/>
                </a:moveTo>
                <a:lnTo>
                  <a:pt x="7301" y="9038"/>
                </a:lnTo>
                <a:lnTo>
                  <a:pt x="7301" y="14373"/>
                </a:lnTo>
                <a:cubicBezTo>
                  <a:pt x="7301" y="15295"/>
                  <a:pt x="8102" y="16027"/>
                  <a:pt x="9138" y="16027"/>
                </a:cubicBezTo>
                <a:lnTo>
                  <a:pt x="10800" y="16027"/>
                </a:lnTo>
                <a:cubicBezTo>
                  <a:pt x="11836" y="16027"/>
                  <a:pt x="12636" y="15295"/>
                  <a:pt x="12636" y="14373"/>
                </a:cubicBezTo>
                <a:lnTo>
                  <a:pt x="12636" y="9038"/>
                </a:lnTo>
                <a:lnTo>
                  <a:pt x="10800" y="9038"/>
                </a:lnTo>
                <a:lnTo>
                  <a:pt x="14308" y="5530"/>
                </a:lnTo>
                <a:lnTo>
                  <a:pt x="17981" y="9038"/>
                </a:lnTo>
                <a:lnTo>
                  <a:pt x="16144" y="9038"/>
                </a:lnTo>
                <a:lnTo>
                  <a:pt x="16144" y="14373"/>
                </a:lnTo>
                <a:cubicBezTo>
                  <a:pt x="16144" y="17141"/>
                  <a:pt x="13568" y="19700"/>
                  <a:pt x="10800" y="19700"/>
                </a:cubicBezTo>
                <a:lnTo>
                  <a:pt x="9138" y="19700"/>
                </a:lnTo>
                <a:cubicBezTo>
                  <a:pt x="6370" y="19700"/>
                  <a:pt x="3794" y="17141"/>
                  <a:pt x="3794" y="14373"/>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9" name="Picture 8" descr="yadvashem5"/>
          <p:cNvPicPr/>
          <p:nvPr/>
        </p:nvPicPr>
        <p:blipFill>
          <a:blip r:embed="rId2"/>
          <a:stretch/>
        </p:blipFill>
        <p:spPr>
          <a:xfrm>
            <a:off x="685800" y="1295280"/>
            <a:ext cx="3400560" cy="2551320"/>
          </a:xfrm>
          <a:prstGeom prst="rect">
            <a:avLst/>
          </a:prstGeom>
          <a:ln w="0">
            <a:noFill/>
          </a:ln>
        </p:spPr>
      </p:pic>
      <p:pic>
        <p:nvPicPr>
          <p:cNvPr id="100" name="Picture 11" descr="01340"/>
          <p:cNvPicPr/>
          <p:nvPr/>
        </p:nvPicPr>
        <p:blipFill>
          <a:blip r:embed="rId3"/>
          <a:stretch/>
        </p:blipFill>
        <p:spPr>
          <a:xfrm>
            <a:off x="685800" y="3962520"/>
            <a:ext cx="3340080" cy="23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as Chambers</a:t>
            </a:r>
            <a:endParaRPr b="0" lang="en-US" sz="4400" spc="-1" strike="noStrike">
              <a:solidFill>
                <a:srgbClr val="e3ebf1"/>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victims did not know of their dea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Chambers were referred to as Baths/Showers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1"/>
              </a:rPr>
              <a:t>Zyklon B </a:t>
            </a:r>
            <a:r>
              <a:rPr b="0" lang="en-US" sz="2800" spc="-1" strike="noStrike">
                <a:solidFill>
                  <a:srgbClr val="ffffff"/>
                </a:solidFill>
                <a:latin typeface="Arial"/>
              </a:rPr>
              <a:t>– was used as a poi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ions of people came to their death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AutoShape 8">
            <a:hlinkClick r:id="rId2" action="ppaction://hlinksldjump"/>
          </p:cNvPr>
          <p:cNvSpPr/>
          <p:nvPr/>
        </p:nvSpPr>
        <p:spPr>
          <a:xfrm>
            <a:off x="533520" y="56386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3794" y="8394"/>
                </a:moveTo>
                <a:lnTo>
                  <a:pt x="7301" y="8394"/>
                </a:lnTo>
                <a:lnTo>
                  <a:pt x="7301" y="13729"/>
                </a:lnTo>
                <a:cubicBezTo>
                  <a:pt x="7301" y="14652"/>
                  <a:pt x="8102" y="15383"/>
                  <a:pt x="9138" y="15383"/>
                </a:cubicBezTo>
                <a:lnTo>
                  <a:pt x="10800" y="15383"/>
                </a:lnTo>
                <a:cubicBezTo>
                  <a:pt x="11836" y="15383"/>
                  <a:pt x="12636" y="14652"/>
                  <a:pt x="12636" y="13729"/>
                </a:cubicBezTo>
                <a:lnTo>
                  <a:pt x="12636" y="8394"/>
                </a:lnTo>
                <a:lnTo>
                  <a:pt x="10800" y="8394"/>
                </a:lnTo>
                <a:lnTo>
                  <a:pt x="14308" y="4886"/>
                </a:lnTo>
                <a:lnTo>
                  <a:pt x="17981" y="8394"/>
                </a:lnTo>
                <a:lnTo>
                  <a:pt x="16144" y="8394"/>
                </a:lnTo>
                <a:lnTo>
                  <a:pt x="16144" y="13729"/>
                </a:lnTo>
                <a:cubicBezTo>
                  <a:pt x="16144" y="16497"/>
                  <a:pt x="13568" y="19056"/>
                  <a:pt x="10800" y="19056"/>
                </a:cubicBezTo>
                <a:lnTo>
                  <a:pt x="9138" y="19056"/>
                </a:lnTo>
                <a:cubicBezTo>
                  <a:pt x="6370" y="19056"/>
                  <a:pt x="3794" y="16497"/>
                  <a:pt x="3794" y="13729"/>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4" name="Picture 9" descr="8507"/>
          <p:cNvPicPr/>
          <p:nvPr/>
        </p:nvPicPr>
        <p:blipFill>
          <a:blip r:embed="rId3"/>
          <a:stretch/>
        </p:blipFill>
        <p:spPr>
          <a:xfrm>
            <a:off x="5181480" y="1219320"/>
            <a:ext cx="3246480" cy="2436840"/>
          </a:xfrm>
          <a:prstGeom prst="rect">
            <a:avLst/>
          </a:prstGeom>
          <a:ln w="0">
            <a:noFill/>
          </a:ln>
        </p:spPr>
      </p:pic>
      <p:pic>
        <p:nvPicPr>
          <p:cNvPr id="105" name="Picture 10" descr="8510"/>
          <p:cNvPicPr/>
          <p:nvPr/>
        </p:nvPicPr>
        <p:blipFill>
          <a:blip r:embed="rId4"/>
          <a:stretch/>
        </p:blipFill>
        <p:spPr>
          <a:xfrm>
            <a:off x="5105520" y="3809880"/>
            <a:ext cx="3328920" cy="236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rematoriums</a:t>
            </a:r>
            <a:endParaRPr b="0" lang="en-US" sz="4400" spc="-1" strike="noStrike">
              <a:solidFill>
                <a:srgbClr val="e3ebf1"/>
              </a:solidFill>
              <a:latin typeface="Arial"/>
            </a:endParaRPr>
          </a:p>
        </p:txBody>
      </p:sp>
      <p:sp>
        <p:nvSpPr>
          <p:cNvPr id="107" name="PlaceHolder 2"/>
          <p:cNvSpPr>
            <a:spLocks noGrp="1"/>
          </p:cNvSpPr>
          <p:nvPr>
            <p:ph/>
          </p:nvPr>
        </p:nvSpPr>
        <p:spPr>
          <a:xfrm>
            <a:off x="4876920" y="233208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soners were forced to staff the crematorium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job was to remove all valuables from the victim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AutoShape 7">
            <a:hlinkClick r:id="rId1" action="ppaction://hlinksldjump"/>
          </p:cNvPr>
          <p:cNvSpPr/>
          <p:nvPr/>
        </p:nvSpPr>
        <p:spPr>
          <a:xfrm>
            <a:off x="7848720" y="5562720"/>
            <a:ext cx="914400" cy="990360"/>
          </a:xfrm>
          <a:custGeom>
            <a:avLst/>
            <a:gdLst>
              <a:gd name="textAreaLeft" fmla="*/ 59040 w 914400"/>
              <a:gd name="textAreaRight" fmla="*/ 855360 w 914400"/>
              <a:gd name="textAreaTop" fmla="*/ 59040 h 990360"/>
              <a:gd name="textAreaBottom" fmla="*/ 931320 h 990360"/>
            </a:gdLst>
            <a:ahLst/>
            <a:rect l="textAreaLeft" t="textAreaTop" r="textAreaRight" b="textAreaBottom"/>
            <a:pathLst>
              <a:path w="21600" h="23394">
                <a:moveTo>
                  <a:pt x="0" y="0"/>
                </a:moveTo>
                <a:lnTo>
                  <a:pt x="21600" y="0"/>
                </a:lnTo>
                <a:lnTo>
                  <a:pt x="21600" y="23394"/>
                </a:lnTo>
                <a:lnTo>
                  <a:pt x="0" y="23394"/>
                </a:lnTo>
                <a:close/>
              </a:path>
              <a:path fill="lightenLess" w="21600" h="23394">
                <a:moveTo>
                  <a:pt x="0" y="0"/>
                </a:moveTo>
                <a:lnTo>
                  <a:pt x="21600" y="0"/>
                </a:lnTo>
                <a:lnTo>
                  <a:pt x="20200" y="1400"/>
                </a:lnTo>
                <a:lnTo>
                  <a:pt x="1400" y="1400"/>
                </a:lnTo>
                <a:close/>
              </a:path>
              <a:path fill="darken" w="21600" h="23394">
                <a:moveTo>
                  <a:pt x="21600" y="0"/>
                </a:moveTo>
                <a:lnTo>
                  <a:pt x="21600" y="23394"/>
                </a:lnTo>
                <a:lnTo>
                  <a:pt x="20200" y="21994"/>
                </a:lnTo>
                <a:lnTo>
                  <a:pt x="20200" y="1400"/>
                </a:lnTo>
                <a:close/>
              </a:path>
              <a:path fill="darkenLess" w="21600" h="23394">
                <a:moveTo>
                  <a:pt x="21600" y="23394"/>
                </a:moveTo>
                <a:lnTo>
                  <a:pt x="0" y="23394"/>
                </a:lnTo>
                <a:lnTo>
                  <a:pt x="1400" y="21994"/>
                </a:lnTo>
                <a:lnTo>
                  <a:pt x="20200" y="21994"/>
                </a:lnTo>
                <a:close/>
              </a:path>
              <a:path fill="lighten" w="21600" h="23394">
                <a:moveTo>
                  <a:pt x="0" y="23394"/>
                </a:moveTo>
                <a:lnTo>
                  <a:pt x="0" y="0"/>
                </a:lnTo>
                <a:lnTo>
                  <a:pt x="1400" y="1400"/>
                </a:lnTo>
                <a:lnTo>
                  <a:pt x="1400" y="21994"/>
                </a:lnTo>
                <a:close/>
              </a:path>
              <a:path fill="darken" w="21600" h="23394">
                <a:moveTo>
                  <a:pt x="3794" y="8389"/>
                </a:moveTo>
                <a:lnTo>
                  <a:pt x="7301" y="8389"/>
                </a:lnTo>
                <a:lnTo>
                  <a:pt x="7301" y="13725"/>
                </a:lnTo>
                <a:cubicBezTo>
                  <a:pt x="7301" y="14647"/>
                  <a:pt x="8102" y="15378"/>
                  <a:pt x="9138" y="15378"/>
                </a:cubicBezTo>
                <a:lnTo>
                  <a:pt x="10800" y="15378"/>
                </a:lnTo>
                <a:cubicBezTo>
                  <a:pt x="11836" y="15378"/>
                  <a:pt x="12636" y="14647"/>
                  <a:pt x="12636" y="13725"/>
                </a:cubicBezTo>
                <a:lnTo>
                  <a:pt x="12636" y="8389"/>
                </a:lnTo>
                <a:lnTo>
                  <a:pt x="10800" y="8389"/>
                </a:lnTo>
                <a:lnTo>
                  <a:pt x="14308" y="4882"/>
                </a:lnTo>
                <a:lnTo>
                  <a:pt x="17981" y="8389"/>
                </a:lnTo>
                <a:lnTo>
                  <a:pt x="16144" y="8389"/>
                </a:lnTo>
                <a:lnTo>
                  <a:pt x="16144" y="13725"/>
                </a:lnTo>
                <a:cubicBezTo>
                  <a:pt x="16144" y="16493"/>
                  <a:pt x="13568" y="19051"/>
                  <a:pt x="10800" y="19051"/>
                </a:cubicBezTo>
                <a:lnTo>
                  <a:pt x="9138" y="19051"/>
                </a:lnTo>
                <a:cubicBezTo>
                  <a:pt x="6370" y="19051"/>
                  <a:pt x="3794" y="16493"/>
                  <a:pt x="3794" y="13725"/>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8" descr="Camp ovens"/>
          <p:cNvPicPr/>
          <p:nvPr/>
        </p:nvPicPr>
        <p:blipFill>
          <a:blip r:embed="rId2"/>
          <a:stretch/>
        </p:blipFill>
        <p:spPr>
          <a:xfrm>
            <a:off x="457200" y="1523880"/>
            <a:ext cx="4038480" cy="2845080"/>
          </a:xfrm>
          <a:prstGeom prst="rect">
            <a:avLst/>
          </a:prstGeom>
          <a:ln w="0">
            <a:noFill/>
          </a:ln>
        </p:spPr>
      </p:pic>
      <p:sp>
        <p:nvSpPr>
          <p:cNvPr id="110" name="Text Box 9"/>
          <p:cNvSpPr/>
          <p:nvPr/>
        </p:nvSpPr>
        <p:spPr>
          <a:xfrm>
            <a:off x="1064160" y="5029200"/>
            <a:ext cx="274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here to watch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vivors Testimon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menian Genocide</a:t>
            </a:r>
            <a:endParaRPr b="0" lang="en-US" sz="4400" spc="-1" strike="noStrike">
              <a:solidFill>
                <a:srgbClr val="e3ebf1"/>
              </a:solidFill>
              <a:latin typeface="Arial"/>
            </a:endParaRPr>
          </a:p>
        </p:txBody>
      </p:sp>
      <p:sp>
        <p:nvSpPr>
          <p:cNvPr id="112" name="PlaceHolder 2"/>
          <p:cNvSpPr>
            <a:spLocks noGrp="1"/>
          </p:cNvSpPr>
          <p:nvPr>
            <p:ph/>
          </p:nvPr>
        </p:nvSpPr>
        <p:spPr>
          <a:xfrm>
            <a:off x="533520" y="233208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5 – 192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00 men, women and children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0 survivors expelled form their homes</a:t>
            </a:r>
            <a:endParaRPr b="0" lang="en-US" sz="2800" spc="-1" strike="noStrike">
              <a:solidFill>
                <a:srgbClr val="ffffff"/>
              </a:solidFill>
              <a:latin typeface="Arial"/>
            </a:endParaRPr>
          </a:p>
        </p:txBody>
      </p:sp>
      <p:sp>
        <p:nvSpPr>
          <p:cNvPr id="113" name="AutoShape 4"/>
          <p:cNvSpPr/>
          <p:nvPr/>
        </p:nvSpPr>
        <p:spPr>
          <a:xfrm>
            <a:off x="792468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oviet Union (Famine)</a:t>
            </a:r>
            <a:endParaRPr b="0" lang="en-US" sz="4400" spc="-1" strike="noStrike">
              <a:solidFill>
                <a:srgbClr val="e3ebf1"/>
              </a:solidFill>
              <a:latin typeface="Arial"/>
            </a:endParaRPr>
          </a:p>
        </p:txBody>
      </p:sp>
      <p:sp>
        <p:nvSpPr>
          <p:cNvPr id="115" name="PlaceHolder 2"/>
          <p:cNvSpPr>
            <a:spLocks noGrp="1"/>
          </p:cNvSpPr>
          <p:nvPr>
            <p:ph/>
          </p:nvPr>
        </p:nvSpPr>
        <p:spPr>
          <a:xfrm>
            <a:off x="380880" y="233208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s, government and military leaders, and members of the elite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2 – 193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made famine – Soviet troops seized all of the crops</a:t>
            </a:r>
            <a:endParaRPr b="0" lang="en-US" sz="2800" spc="-1" strike="noStrike">
              <a:solidFill>
                <a:srgbClr val="ffffff"/>
              </a:solidFill>
              <a:latin typeface="Arial"/>
            </a:endParaRPr>
          </a:p>
        </p:txBody>
      </p:sp>
      <p:sp>
        <p:nvSpPr>
          <p:cNvPr id="116" name="AutoShape 4"/>
          <p:cNvSpPr/>
          <p:nvPr/>
        </p:nvSpPr>
        <p:spPr>
          <a:xfrm>
            <a:off x="78487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ambodia</a:t>
            </a:r>
            <a:endParaRPr b="0" lang="en-US" sz="4400" spc="-1" strike="noStrike">
              <a:solidFill>
                <a:srgbClr val="e3ebf1"/>
              </a:solidFill>
              <a:latin typeface="Arial"/>
            </a:endParaRPr>
          </a:p>
        </p:txBody>
      </p:sp>
      <p:sp>
        <p:nvSpPr>
          <p:cNvPr id="118" name="PlaceHolder 2"/>
          <p:cNvSpPr>
            <a:spLocks noGrp="1"/>
          </p:cNvSpPr>
          <p:nvPr>
            <p:ph/>
          </p:nvPr>
        </p:nvSpPr>
        <p:spPr>
          <a:xfrm>
            <a:off x="457200" y="233208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d, artists, technicians, formers government officials, monks, and minoritie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5- 1979</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00,000 murdered – this includes those who died by slave labor</a:t>
            </a:r>
            <a:endParaRPr b="0" lang="en-US" sz="2800" spc="-1" strike="noStrike">
              <a:solidFill>
                <a:srgbClr val="ffffff"/>
              </a:solidFill>
              <a:latin typeface="Arial"/>
            </a:endParaRPr>
          </a:p>
        </p:txBody>
      </p:sp>
      <p:sp>
        <p:nvSpPr>
          <p:cNvPr id="119" name="AutoShape 4"/>
          <p:cNvSpPr/>
          <p:nvPr/>
        </p:nvSpPr>
        <p:spPr>
          <a:xfrm>
            <a:off x="7924680" y="56386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Question</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examples in History, in which people were discriminated against, hated because of their race, religion or political 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what it means to discriminate against?</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wanda</a:t>
            </a:r>
            <a:endParaRPr b="0" lang="en-US" sz="4400" spc="-1" strike="noStrike">
              <a:solidFill>
                <a:srgbClr val="e3ebf1"/>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si and moderate Hutu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only 100 days</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37,000 murdered – largest amounts of people to die in genocide per da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2" name="AutoShape 4"/>
          <p:cNvSpPr/>
          <p:nvPr/>
        </p:nvSpPr>
        <p:spPr>
          <a:xfrm>
            <a:off x="77724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Yugoslavia</a:t>
            </a:r>
            <a:endParaRPr b="0" lang="en-US" sz="4400" spc="-1" strike="noStrike">
              <a:solidFill>
                <a:srgbClr val="e3ebf1"/>
              </a:solidFill>
              <a:latin typeface="Arial"/>
            </a:endParaRPr>
          </a:p>
        </p:txBody>
      </p:sp>
      <p:sp>
        <p:nvSpPr>
          <p:cNvPr id="124" name="PlaceHolder 2"/>
          <p:cNvSpPr>
            <a:spLocks noGrp="1"/>
          </p:cNvSpPr>
          <p:nvPr>
            <p:ph/>
          </p:nvPr>
        </p:nvSpPr>
        <p:spPr>
          <a:xfrm>
            <a:off x="685800" y="233208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nian Muslims and Croat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2 – 1995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rebrenica Massacre – 8,000 murdered</a:t>
            </a:r>
            <a:endParaRPr b="0" lang="en-US" sz="2800" spc="-1" strike="noStrike">
              <a:solidFill>
                <a:srgbClr val="ffffff"/>
              </a:solidFill>
              <a:latin typeface="Arial"/>
            </a:endParaRPr>
          </a:p>
        </p:txBody>
      </p:sp>
      <p:sp>
        <p:nvSpPr>
          <p:cNvPr id="125" name="AutoShape 4"/>
          <p:cNvSpPr/>
          <p:nvPr/>
        </p:nvSpPr>
        <p:spPr>
          <a:xfrm>
            <a:off x="8001000" y="57150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arfur</a:t>
            </a:r>
            <a:endParaRPr b="0" lang="en-US" sz="4400" spc="-1" strike="noStrike">
              <a:solidFill>
                <a:srgbClr val="e3ebf1"/>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 black African groups (including – Fur, Zaghawa and Massalit)</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0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00,000 displac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ongoing </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lict began in February 2003 </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s from the 1980’s</a:t>
            </a:r>
            <a:endParaRPr b="0" lang="en-US" sz="24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s 200,000 killed – this is a conservative estimat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AutoShape 4"/>
          <p:cNvSpPr/>
          <p:nvPr/>
        </p:nvSpPr>
        <p:spPr>
          <a:xfrm>
            <a:off x="8077320" y="57913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ccff"/>
                </a:solidFill>
                <a:uFillTx/>
                <a:latin typeface="Arial"/>
                <a:hlinkClick r:id="rId1"/>
              </a:rPr>
              <a:t>Pyramid of Hate</a:t>
            </a:r>
            <a:endParaRPr b="0" lang="en-US" sz="4400" spc="-1" strike="noStrike">
              <a:solidFill>
                <a:srgbClr val="e3ebf1"/>
              </a:solidFill>
              <a:latin typeface="Arial"/>
            </a:endParaRPr>
          </a:p>
        </p:txBody>
      </p:sp>
      <p:pic>
        <p:nvPicPr>
          <p:cNvPr id="54" name="Picture 7" descr="hate"/>
          <p:cNvPicPr/>
          <p:nvPr/>
        </p:nvPicPr>
        <p:blipFill>
          <a:blip r:embed="rId2"/>
          <a:stretch/>
        </p:blipFill>
        <p:spPr>
          <a:xfrm>
            <a:off x="2057400" y="228600"/>
            <a:ext cx="5029200" cy="6269040"/>
          </a:xfrm>
          <a:prstGeom prst="rect">
            <a:avLst/>
          </a:prstGeom>
          <a:ln w="0">
            <a:noFill/>
          </a:ln>
        </p:spPr>
      </p:pic>
      <p:sp>
        <p:nvSpPr>
          <p:cNvPr id="55" name="Text Box 8"/>
          <p:cNvSpPr/>
          <p:nvPr/>
        </p:nvSpPr>
        <p:spPr>
          <a:xfrm>
            <a:off x="5334120" y="2666880"/>
            <a:ext cx="3504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This pyramid shows how hate can escalate into something more than just discrimination but into extermination.</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at is Genocide?</a:t>
            </a:r>
            <a:endParaRPr b="0" lang="en-US" sz="4400" spc="-1" strike="noStrike">
              <a:solidFill>
                <a:srgbClr val="e3ebf1"/>
              </a:solidFill>
              <a:latin typeface="Arial"/>
            </a:endParaRPr>
          </a:p>
        </p:txBody>
      </p:sp>
      <p:sp>
        <p:nvSpPr>
          <p:cNvPr id="57" name="PlaceHolder 2"/>
          <p:cNvSpPr>
            <a:spLocks noGrp="1"/>
          </p:cNvSpPr>
          <p:nvPr>
            <p:ph/>
          </p:nvPr>
        </p:nvSpPr>
        <p:spPr>
          <a:xfrm>
            <a:off x="456840" y="1599840"/>
            <a:ext cx="8381880" cy="35053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atic and purposeful destruction of a racial, political, religious, or cultural group.</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t and Current Genocide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locaus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1" action="ppaction://hlinksldjump"/>
              </a:rPr>
              <a:t>Armenian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2" action="ppaction://hlinksldjump"/>
              </a:rPr>
              <a:t>Soviet Un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3" action="ppaction://hlinksldjump"/>
              </a:rPr>
              <a:t>Cambod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4" action="ppaction://hlinksldjump"/>
              </a:rPr>
              <a:t>Rwand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5" action="ppaction://hlinksldjump"/>
              </a:rPr>
              <a:t>Yugoslav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6" action="ppaction://hlinksldjump"/>
              </a:rPr>
              <a:t>Dafur</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lements Leading to the Holocaust</a:t>
            </a:r>
            <a:endParaRPr b="0" lang="en-US" sz="4000" spc="-1" strike="noStrike">
              <a:solidFill>
                <a:srgbClr val="e3ebf1"/>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ction="ppaction://hlinksldjump"/>
              </a:rPr>
              <a:t>Totalitarianism</a:t>
            </a:r>
            <a:r>
              <a:rPr b="0" lang="en-US" sz="3200" spc="-1" strike="noStrike">
                <a:solidFill>
                  <a:srgbClr val="ffffff"/>
                </a:solidFill>
                <a:latin typeface="Arial"/>
              </a:rPr>
              <a:t> combined with </a:t>
            </a:r>
            <a:r>
              <a:rPr b="0" lang="en-US" sz="3200" spc="-1" strike="noStrike" u="sng">
                <a:solidFill>
                  <a:srgbClr val="66ccff"/>
                </a:solidFill>
                <a:uFillTx/>
                <a:latin typeface="Arial"/>
                <a:hlinkClick r:id="rId2" action="ppaction://hlinksldjump"/>
              </a:rPr>
              <a:t>Nation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a:t>
            </a:r>
            <a:r>
              <a:rPr b="0" lang="en-US" sz="3200" spc="-1" strike="noStrike" u="sng">
                <a:solidFill>
                  <a:srgbClr val="66ccff"/>
                </a:solidFill>
                <a:uFillTx/>
                <a:latin typeface="Arial"/>
                <a:hlinkClick r:id="rId3" action="ppaction://hlinksldjump"/>
              </a:rPr>
              <a:t>Anti-Sem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 in World War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s belief in the </a:t>
            </a:r>
            <a:r>
              <a:rPr b="0" lang="en-US" sz="3200" spc="-1" strike="noStrike" u="sng">
                <a:solidFill>
                  <a:srgbClr val="66ccff"/>
                </a:solidFill>
                <a:uFillTx/>
                <a:latin typeface="Arial"/>
                <a:hlinkClick r:id="rId4" action="ppaction://hlinksldjump"/>
              </a:rPr>
              <a:t>Master R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66ccff"/>
                </a:solidFill>
                <a:uFillTx/>
                <a:latin typeface="Arial"/>
                <a:hlinkClick r:id="rId5" action="ppaction://hlinksldjump"/>
              </a:rPr>
              <a:t>Final Solution</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talitarianism</a:t>
            </a:r>
            <a:endParaRPr b="0" lang="en-US" sz="4400" spc="-1" strike="noStrike">
              <a:solidFill>
                <a:srgbClr val="e3ebf1"/>
              </a:solidFill>
              <a:latin typeface="Arial"/>
            </a:endParaRPr>
          </a:p>
        </p:txBody>
      </p:sp>
      <p:sp>
        <p:nvSpPr>
          <p:cNvPr id="61"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alized control by an autocratic authority and the political concept that the citizens should be totally subjected to an absolute state authority </a:t>
            </a:r>
            <a:endParaRPr b="0" lang="en-US" sz="2800" spc="-1" strike="noStrike">
              <a:solidFill>
                <a:srgbClr val="ffffff"/>
              </a:solidFill>
              <a:latin typeface="Arial"/>
            </a:endParaRPr>
          </a:p>
        </p:txBody>
      </p:sp>
      <p:sp>
        <p:nvSpPr>
          <p:cNvPr id="62" name="AutoShape 6">
            <a:hlinkClick r:id="" action="ppaction://hlinkshowjump?jump=previousslide"/>
          </p:cNvPr>
          <p:cNvSpPr/>
          <p:nvPr/>
        </p:nvSpPr>
        <p:spPr>
          <a:xfrm>
            <a:off x="304920" y="5410080"/>
            <a:ext cx="1295280" cy="990720"/>
          </a:xfrm>
          <a:custGeom>
            <a:avLst/>
            <a:gdLst>
              <a:gd name="textAreaLeft" fmla="*/ 64080 w 1295280"/>
              <a:gd name="textAreaRight" fmla="*/ 1231200 w 1295280"/>
              <a:gd name="textAreaTop" fmla="*/ 64080 h 990720"/>
              <a:gd name="textAreaBottom" fmla="*/ 926640 h 99072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7112" y="7493"/>
                </a:moveTo>
                <a:lnTo>
                  <a:pt x="10620" y="7493"/>
                </a:lnTo>
                <a:lnTo>
                  <a:pt x="10620" y="12828"/>
                </a:lnTo>
                <a:cubicBezTo>
                  <a:pt x="10620" y="13751"/>
                  <a:pt x="11421" y="14482"/>
                  <a:pt x="12456" y="14482"/>
                </a:cubicBezTo>
                <a:lnTo>
                  <a:pt x="14119" y="14482"/>
                </a:lnTo>
                <a:cubicBezTo>
                  <a:pt x="15155" y="14482"/>
                  <a:pt x="15955" y="13751"/>
                  <a:pt x="15955" y="12828"/>
                </a:cubicBezTo>
                <a:lnTo>
                  <a:pt x="15955" y="7493"/>
                </a:lnTo>
                <a:lnTo>
                  <a:pt x="14119" y="7493"/>
                </a:lnTo>
                <a:lnTo>
                  <a:pt x="17626" y="3985"/>
                </a:lnTo>
                <a:lnTo>
                  <a:pt x="21299" y="7493"/>
                </a:lnTo>
                <a:lnTo>
                  <a:pt x="19463" y="7493"/>
                </a:lnTo>
                <a:lnTo>
                  <a:pt x="19463" y="12828"/>
                </a:lnTo>
                <a:cubicBezTo>
                  <a:pt x="19463" y="15596"/>
                  <a:pt x="16887" y="18155"/>
                  <a:pt x="14119" y="18155"/>
                </a:cubicBezTo>
                <a:lnTo>
                  <a:pt x="12456" y="18155"/>
                </a:lnTo>
                <a:cubicBezTo>
                  <a:pt x="9689" y="18155"/>
                  <a:pt x="7112" y="15596"/>
                  <a:pt x="7112"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 name="Picture 8" descr="MCj03844020000[1]"/>
          <p:cNvPicPr/>
          <p:nvPr/>
        </p:nvPicPr>
        <p:blipFill>
          <a:blip r:embed="rId1"/>
          <a:stretch/>
        </p:blipFill>
        <p:spPr>
          <a:xfrm>
            <a:off x="5334120" y="1523880"/>
            <a:ext cx="2950920" cy="4743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ationalism</a:t>
            </a:r>
            <a:endParaRPr b="0" lang="en-US" sz="4400" spc="-1" strike="noStrike">
              <a:solidFill>
                <a:srgbClr val="e3ebf1"/>
              </a:solidFill>
              <a:latin typeface="Arial"/>
            </a:endParaRPr>
          </a:p>
        </p:txBody>
      </p:sp>
      <p:sp>
        <p:nvSpPr>
          <p:cNvPr id="65"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46160" y="1600200"/>
            <a:ext cx="40402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yalty and devotion to a nation; and a sense of national consciousness exalting ones nation above all others and placing primary emphasis on promotion of its culture and interests as opposed to those of other nations or supranational group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67" name="Picture 6" descr="dove"/>
          <p:cNvPicPr/>
          <p:nvPr/>
        </p:nvPicPr>
        <p:blipFill>
          <a:blip r:embed="rId1"/>
          <a:stretch/>
        </p:blipFill>
        <p:spPr>
          <a:xfrm>
            <a:off x="609480" y="1600200"/>
            <a:ext cx="3873600" cy="4495680"/>
          </a:xfrm>
          <a:prstGeom prst="rect">
            <a:avLst/>
          </a:prstGeom>
          <a:ln w="0">
            <a:noFill/>
          </a:ln>
        </p:spPr>
      </p:pic>
      <p:sp>
        <p:nvSpPr>
          <p:cNvPr id="68" name="AutoShape 8">
            <a:hlinkClick r:id="" action="ppaction://hlinkshowjump?jump=previousslide"/>
          </p:cNvPr>
          <p:cNvSpPr/>
          <p:nvPr/>
        </p:nvSpPr>
        <p:spPr>
          <a:xfrm>
            <a:off x="8077320" y="5791320"/>
            <a:ext cx="761760" cy="761760"/>
          </a:xfrm>
          <a:custGeom>
            <a:avLst/>
            <a:gdLst>
              <a:gd name="textAreaLeft" fmla="*/ 49320 w 761760"/>
              <a:gd name="textAreaRight" fmla="*/ 712440 w 761760"/>
              <a:gd name="textAreaTop" fmla="*/ 49320 h 761760"/>
              <a:gd name="textAreaBottom" fmla="*/ 712440 h 76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ti-Semitism</a:t>
            </a:r>
            <a:endParaRPr b="0" lang="en-US" sz="4400" spc="-1" strike="noStrike">
              <a:solidFill>
                <a:srgbClr val="e3ebf1"/>
              </a:solidFill>
              <a:latin typeface="Arial"/>
            </a:endParaRPr>
          </a:p>
        </p:txBody>
      </p:sp>
      <p:sp>
        <p:nvSpPr>
          <p:cNvPr id="70" name="PlaceHolder 2"/>
          <p:cNvSpPr>
            <a:spLocks noGrp="1"/>
          </p:cNvSpPr>
          <p:nvPr>
            <p:ph/>
          </p:nvPr>
        </p:nvSpPr>
        <p:spPr>
          <a:xfrm>
            <a:off x="5181120" y="1600200"/>
            <a:ext cx="3429000" cy="49528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ility toward or discrimination against Jews as a religious, ethnic, or racial group. </a:t>
            </a:r>
            <a:endParaRPr b="0" lang="en-US" sz="2800" spc="-1" strike="noStrike">
              <a:solidFill>
                <a:srgbClr val="ffffff"/>
              </a:solidFill>
              <a:latin typeface="Arial"/>
            </a:endParaRPr>
          </a:p>
        </p:txBody>
      </p:sp>
      <p:pic>
        <p:nvPicPr>
          <p:cNvPr id="71" name="Picture 6" descr="Young Jewish Boy"/>
          <p:cNvPicPr/>
          <p:nvPr/>
        </p:nvPicPr>
        <p:blipFill>
          <a:blip r:embed="rId1"/>
          <a:stretch/>
        </p:blipFill>
        <p:spPr>
          <a:xfrm>
            <a:off x="685800" y="1219320"/>
            <a:ext cx="3657600" cy="2689200"/>
          </a:xfrm>
          <a:prstGeom prst="rect">
            <a:avLst/>
          </a:prstGeom>
          <a:ln w="0">
            <a:noFill/>
          </a:ln>
        </p:spPr>
      </p:pic>
      <p:pic>
        <p:nvPicPr>
          <p:cNvPr id="72" name="Picture 8" descr="1998gunv">
            <a:hlinkClick r:id="rId2"/>
          </p:cNvPr>
          <p:cNvPicPr/>
          <p:nvPr/>
        </p:nvPicPr>
        <p:blipFill>
          <a:blip r:embed="rId3"/>
          <a:stretch/>
        </p:blipFill>
        <p:spPr>
          <a:xfrm>
            <a:off x="685800" y="4114800"/>
            <a:ext cx="3657600" cy="2467080"/>
          </a:xfrm>
          <a:prstGeom prst="rect">
            <a:avLst/>
          </a:prstGeom>
          <a:ln w="0">
            <a:noFill/>
          </a:ln>
        </p:spPr>
      </p:pic>
      <p:sp>
        <p:nvSpPr>
          <p:cNvPr id="73" name="Text Box 9"/>
          <p:cNvSpPr/>
          <p:nvPr/>
        </p:nvSpPr>
        <p:spPr>
          <a:xfrm>
            <a:off x="974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AutoShape 10">
            <a:hlinkClick r:id="" action="ppaction://hlinkshowjump?jump=previousslide"/>
          </p:cNvPr>
          <p:cNvSpPr/>
          <p:nvPr/>
        </p:nvSpPr>
        <p:spPr>
          <a:xfrm>
            <a:off x="8001000" y="563868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ster Race</a:t>
            </a:r>
            <a:endParaRPr b="0" lang="en-US" sz="4400" spc="-1" strike="noStrike">
              <a:solidFill>
                <a:srgbClr val="e3ebf1"/>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Nazism to designate a supposed master race of Non-Jewish Caucasians usually </a:t>
            </a:r>
            <a:r>
              <a:rPr b="0" lang="en-US" sz="2800" spc="-1" strike="noStrike">
                <a:solidFill>
                  <a:srgbClr val="ffffff"/>
                </a:solidFill>
                <a:latin typeface="Arial"/>
              </a:rPr>
              <a:t>	</a:t>
            </a:r>
            <a:r>
              <a:rPr b="0" lang="en-US" sz="2800" spc="-1" strike="noStrike">
                <a:solidFill>
                  <a:srgbClr val="ffffff"/>
                </a:solidFill>
                <a:latin typeface="Arial"/>
              </a:rPr>
              <a:t>having Nordic featur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nd hair and Blue ey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as the Aryan Race </a:t>
            </a:r>
            <a:endParaRPr b="0" lang="en-US" sz="2400" spc="-1" strike="noStrike">
              <a:solidFill>
                <a:srgbClr val="ffffff"/>
              </a:solidFill>
              <a:latin typeface="Arial"/>
            </a:endParaRPr>
          </a:p>
        </p:txBody>
      </p:sp>
      <p:pic>
        <p:nvPicPr>
          <p:cNvPr id="77" name="Picture 5" descr="untitled"/>
          <p:cNvPicPr/>
          <p:nvPr/>
        </p:nvPicPr>
        <p:blipFill>
          <a:blip r:embed="rId1"/>
          <a:stretch/>
        </p:blipFill>
        <p:spPr>
          <a:xfrm>
            <a:off x="838080" y="1447920"/>
            <a:ext cx="3389400" cy="4525920"/>
          </a:xfrm>
          <a:prstGeom prst="rect">
            <a:avLst/>
          </a:prstGeom>
          <a:ln w="0">
            <a:noFill/>
          </a:ln>
        </p:spPr>
      </p:pic>
      <p:sp>
        <p:nvSpPr>
          <p:cNvPr id="78" name="Text Box 7"/>
          <p:cNvSpPr/>
          <p:nvPr/>
        </p:nvSpPr>
        <p:spPr>
          <a:xfrm>
            <a:off x="537480" y="6095880"/>
            <a:ext cx="402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Showing the Races of Germany</a:t>
            </a:r>
            <a:endParaRPr b="0" lang="en-US" sz="1800" spc="-1" strike="noStrike">
              <a:solidFill>
                <a:srgbClr val="ffffff"/>
              </a:solidFill>
              <a:latin typeface="Arial"/>
            </a:endParaRPr>
          </a:p>
        </p:txBody>
      </p:sp>
      <p:sp>
        <p:nvSpPr>
          <p:cNvPr id="79" name="AutoShape 8">
            <a:hlinkClick r:id="" action="ppaction://hlinkshowjump?jump=previousslide"/>
          </p:cNvPr>
          <p:cNvSpPr/>
          <p:nvPr/>
        </p:nvSpPr>
        <p:spPr>
          <a:xfrm>
            <a:off x="8001000" y="57913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3:17:57Z</dcterms:created>
  <dc:creator>volunteer</dc:creator>
  <dc:description/>
  <dc:language>en-US</dc:language>
  <cp:lastModifiedBy>ED18</cp:lastModifiedBy>
  <dcterms:modified xsi:type="dcterms:W3CDTF">2011-01-11T13:46:38Z</dcterms:modified>
  <cp:revision>4</cp:revision>
  <dc:subject/>
  <dc:title>Slide 1</dc:title>
</cp:coreProperties>
</file>